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applause.wav" ContentType="audio/x-wav"/>
  <Override PartName="/ppt/media/image16.jpeg" ContentType="image/jpeg"/>
  <Override PartName="/ppt/media/chimes.wav" ContentType="audio/x-wav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908-D6A3-4540-A651-B4FF02A1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F17-8531-4172-9E60-F2D28BBE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D740E-E0BF-4DF4-AD52-106AC0D3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E43F7-3388-414A-9F65-EA580744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70088-548A-4218-AB0D-3517B1F7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5BC4C-4133-4E4A-A856-8ED4EE62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99CBF-2033-4656-A8C6-13316839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E2A53-7625-4D08-BFF0-7887A1B2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88A6F-1688-4344-A572-ED064A65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E6A74-BA7F-4CA8-8D91-DC326C4D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F7FF6-EF07-4DD9-841A-6E464E6E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C40CD2-9216-4C64-9064-5E2D86AD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6A4-F68B-4CDF-9F2B-40D82F71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E5E0E9-668B-4C98-94D4-97C6CBE1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497F74-E92E-4838-AE84-3585191C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831573-F31B-4E1A-AE74-FB511451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05E492-23B6-4F8E-A436-5D21CA28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D636F9-205A-43CF-B184-2295A271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9BDD26-A0B1-4D14-A8AF-90A0AD68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60F5A7-0C8F-4E44-AA08-552C0182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D20867-7B90-4FED-9A6E-5E91E166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9D7123-4EB2-4861-ABA3-DA6C5E47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F3C879-1C46-4171-9F94-083E2ECB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112-3D61-4C73-A972-05630042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60D45E-1CC5-416D-BAEE-531C37D3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0F575-68B1-4708-88CD-2630AC90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E7C10-5C27-4FD3-9FCC-139042AB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BC6DC-AB3E-410A-A16D-12273498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DEC14-68BC-411C-9DE3-ABF90403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E5682-89A9-4B75-85E1-D23FAC69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AEA97-1D2A-49A3-B194-2452201E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D3ABA-FD3D-4078-ACF8-8BC3E522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0F038-26C1-4AFE-9B48-A1D945F8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03A52-342D-4383-88DA-21EB1580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0D29-B01B-425E-B1FA-E4AFE44A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7C3A1-E333-4FAA-98D4-0C6FB5BC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85887-09D0-4DD7-91F8-6873E6F5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93546-8131-406A-A34A-40D874F6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3D853-19BC-49E6-A6F4-7C3D5590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33F37-6F75-467C-9ABB-5234B626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FF582-F876-49DD-AEAB-ECC42D7C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B8FB4-4DAD-4D0B-8B9D-4A6C4AE7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B2D1D-65BC-4C2A-81CC-64BA06DC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D008D-398D-4D7C-92D2-23695A4B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23E9D-848B-45C5-9CE8-AE0B2353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036A-E0E6-4254-BA47-F98E970D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70667-14F3-4211-A737-58540B70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CAA2B-76EA-44CA-BEF5-5B14726B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AA063-8F76-45B1-BA47-CF96F3A4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59271-A599-4856-9DBF-94AD4F89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6D8EA-84A6-41F2-A472-5DCCE836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C0DC8-3789-481E-9C58-F0E3D294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50D1A-4F64-4A4A-8E17-A271FB05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531A5-0AA0-4510-A38B-9CA1FCDD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2ED23-9925-4E95-958E-D3C9BE2C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9B1B7-E00E-453C-9550-0FF756C5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A262-0219-4812-8AB6-7ABC4B46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E909F-3A89-4FF9-A8C8-858EA32E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DECEF-935E-426F-B759-C4E79279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A2033-CDFF-4789-847A-F15336F0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5307A-0332-481E-B79F-630D2025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2C508-C38B-4D55-8CBB-DCBCBA23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CC7C2-6878-4E74-B175-1425C7B3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9EF44-6E01-4EDD-9B13-72F9DDDE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29C32-0001-43B8-A020-3C6669F1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3AE99-3623-452F-BCA2-80888360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17A5B6-88F1-4B3C-B6CD-B709EE0D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721A-152A-452B-81B2-82147B35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28E00-A28F-49FE-9179-5F30EBF2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1EC2CF-FF4E-4874-B513-268C6078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549DF-BBB3-4A06-8B55-37A3B3FD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40410-0F13-4F48-8D03-836A3493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0BB21-75D9-4E72-987E-60A0FC91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CD320-C95C-4258-9A5A-96C35FB5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62729-95CE-4CDD-89F8-B2A7084C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5626D-A8FB-4969-9844-17156381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E61E7-67B3-4E72-972C-213BEA27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DFF368-EC2F-4F54-9C6D-57CC0B22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08A1-C4AD-4F09-A67F-D970FC7B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46B561-D6B4-468B-A4E9-38D3F56A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F7BD70-E9AA-4861-8CDF-81A03B95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ED8908-FD1C-4F76-8BEB-CF180080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740C0E-8E36-44AA-A6C1-9FD571E8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ACEB6D-C0FC-472F-A244-DF437443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5B1FC2-65BA-4DF7-BABE-46FB659A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A0F79D-289E-4297-9D2C-8AAE18C7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3A6937-605C-4576-8A11-B1F9ACCE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223294-7D78-4149-B197-ED5C7A70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0C9577-FFCF-4E8F-AFE6-0FE91B69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1294-D6A9-4656-8F7B-28A577B0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8116B0-E175-4CA4-9BBE-5833448D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68F4-46D4-4D84-B721-035978A4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BD6-837E-48DD-BEF9-40DD4246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A206-8517-4D27-AB07-252043E4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3143-5861-4434-9E21-CD62138F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F046-A0B3-466F-96F6-E88CE216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7AA2-5F34-4600-914B-6DA91097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38B9-B47B-4723-B826-D2A46B87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0A8D-7CDE-4EBE-BFE8-8F56E912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B391C-721A-408E-9C61-E80597DF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A5292-FC0D-4B90-B0C6-E26AC430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694E-C9DA-44FE-8BA5-D2314672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C28DC-38AB-4B37-994A-B4495596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09B-DC09-4745-8393-3EB5B95D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EF31D-0F8B-4665-BDF7-D74E7FE1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1D24-83E9-4BA6-B3A4-DB7838A4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C0E22-6812-428E-AF70-117F308E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99B0-EFCF-468F-9B77-7ADCE2A1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5CD4-0D33-4BE2-A99F-093C24B6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4394A-BA8D-41E9-BC11-1E53788B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7B9BC-D537-4C37-8229-75B8CA93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4BCBC-5C16-4569-9024-7CEFD2B0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4E894-B5BB-494E-81CC-B92B2B6B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16FB9-BC26-453E-9989-77E1E614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4B7C-57AE-4220-8B73-128BC9EB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2AA25-C684-4833-BDFF-4879AD5E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2BC16-4E7F-4169-A21B-B92D6EEB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201F3-8267-4394-B4B3-00EC8C98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B4C98-2CE8-4D67-B5BE-A70A1D8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CE0C1-5E4C-4B86-88FA-5792965F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2359A-85BB-4335-8111-C7E79126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985C0-5529-4737-AD00-0DFE5971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3B160-FDAC-4985-896F-1CD6F68C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513A2-3912-4246-A88C-D5458A8F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66216-107F-44E8-9372-D2DB405D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B74C-03F8-43F3-9D52-2B932B32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A1DAF-8292-4140-A180-0CAC4392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D681B-91B4-4333-8544-27D8FF5C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137A1-B9C6-4FCA-B4E7-CE21F293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E5C31-6A4A-4019-9B51-B0ED4B2C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C83FD-7CE7-45C8-951A-93528281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BFD63-501C-407F-8B44-506C0FE1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72BDC-8361-41C7-9AC7-0603FF32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D279E-F73F-4F06-98CF-04CB6644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2D5A5-A877-4AA8-8046-B5E60019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BB538-7822-4FB7-9539-C46C87D4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22A-CCCF-49BA-A39C-D25419AC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AA87E-038A-456C-890B-A4B7D82E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45357-8BF0-4A9F-BC24-200948C6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2EDFD-3F9F-4E6A-9BC0-A80AD2FF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77EFC-FEE4-4106-9DBD-65FBF00D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9E4E1-6D0D-4F61-BBCC-6D562474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CFFFA-4BE1-4E45-A3AC-5B9C31F0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14619-6804-4D58-B879-E69E751F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F2D63-E1B1-4E0F-95BD-BE19D6AB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14B1D-B354-4705-9FDF-6ED11975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0E0FE-887D-4042-881F-F23E17AE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A49-329E-4438-A28B-52032F6F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D89A7-4F76-4A33-9778-24392B40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335E8-1AD1-4D54-930B-988D5489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08220-4FC6-4DB0-88DB-C9574603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59D9A-BE4B-4909-B5DA-6E73C693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02FF2-1980-40C4-857E-9F585C7E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22AB6-D0FE-42B3-9879-00C35EEC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48E6D-3CC7-4CEA-A7BF-BD87BF39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75FF8-49D6-4E5E-9B4C-C35AB6E3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1AE5F-7588-48A7-9A80-865B5569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3A4FD-5798-4F5F-899B-FCA487DF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EF0-5D55-484E-BBEF-829C70E0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66D32-35AA-44B4-93D4-A859A13D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63E7B-38D4-40CA-A8B8-99F637DB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B5E4F-7B9E-4657-B8D1-0D7653FC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6125B-8EA2-4D78-916D-79D3E34E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60192-C8C9-49F1-9E85-C8A5B7F2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D492D-C8D0-41B2-9C09-8788F4A1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CC5C4-33C1-404B-9707-FCD1AF90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F6642-7373-4F25-9712-B29AF134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DCB3B-55C1-437D-B0FB-050A19CE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C4C39-39C7-4F86-8BA7-B7522822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509-B923-4A66-B9A8-E3556D1F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EB68B-1858-4162-ACA1-096E78DF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04392-3B58-496A-8D63-734BE4C0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A353A-66E3-4194-9D78-DBAC6D4C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0C492-8B22-4D1E-A10A-92B4EE29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57692-DCD9-4538-B691-D5D0D10F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9AAB6-8719-4D11-B90F-8B979F01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00D80-293D-4C79-A80A-7A119859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EDDD0-09B8-42DA-842A-5660186E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BB7CB-66D8-4FB4-AB02-90A1253F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432EB-D461-4503-8859-6A910E27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07FC-654B-4136-A974-EC8B3A8E2A4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7000-272E-4AAB-A361-E35A284B54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6FCA-2EB7-4000-A507-60E83C37E6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012B-478D-4E02-AD0E-54C0E96D42B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59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F983-7C3C-4867-A328-6ABE6D2D2CF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632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0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70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0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EE9D-A10C-4F08-A15C-B8698F103259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6050-A230-4ED3-BC1A-8D0A520B57FC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4CEA-B62C-41A2-895C-83B3CA86A80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836D-96D0-45CE-92FD-4875E09AD13F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8361-6782-4E5E-9744-620E4B2B3D4B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4C16-4390-4CEA-B383-7E28A61D09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04920"/>
            <a:ext cx="457200" cy="1066680"/>
          </a:xfrm>
          <a:prstGeom prst="rect">
            <a:avLst/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10480" y="5791320"/>
            <a:ext cx="520920" cy="1054080"/>
          </a:xfrm>
          <a:prstGeom prst="rect">
            <a:avLst/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5E62-5C4B-4E5B-BDDC-9A61074DF8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04920"/>
            <a:ext cx="457200" cy="1066680"/>
          </a:xfrm>
          <a:prstGeom prst="rect">
            <a:avLst/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610480" y="5791320"/>
            <a:ext cx="520920" cy="1054080"/>
          </a:xfrm>
          <a:prstGeom prst="rect">
            <a:avLst/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63B9-A477-41EA-BDE8-13F9EA0403A6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8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1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1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1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2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A717-8967-4F86-9174-7A148C66D4D6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7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7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8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8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59E9-ED41-423D-BEEE-9184B02AFF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7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1600200" y="838080"/>
            <a:ext cx="632448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读书歌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609588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479" fill="hold"/>
                                        <p:tgtEl>
                                          <p:spTgt spid="8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2133720" y="121932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、门当嘴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752480" y="266688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（启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2362320" y="160020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、交头小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048120" y="30481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（京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2438280" y="16765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、每人着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048120" y="33526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（依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2895480" y="137160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6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、用力种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581280" y="28954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（男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600200" y="1066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219320" y="121932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7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、一只狗，有两张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2438280"/>
            <a:ext cx="245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（哭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1828800" y="914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066680" y="106668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8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、王大娘，白大娘，一起坐在石头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362320" y="37339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（碧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371600" y="11430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9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、小口回家大口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276720" y="29718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（回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685800" y="12193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10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、一个日本兵，拿着一把刀，杀死四口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66880" y="403056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（照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762120" y="106668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11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、一口吃掉一个玉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28195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（国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1066680" y="1447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12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、水流几处又相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429000" y="3200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宋体"/>
              </a:rPr>
              <a:t>（没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324000" y="765000"/>
            <a:ext cx="7993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  <a:ea typeface="华文新魏"/>
              </a:rPr>
              <a:t>不以</a:t>
            </a:r>
            <a:r>
              <a:rPr b="0" lang="zh-CN" sz="8000" spc="-1" strike="noStrike">
                <a:solidFill>
                  <a:srgbClr val="0033cc"/>
                </a:solidFill>
                <a:latin typeface="Arial"/>
                <a:ea typeface="华文新魏"/>
              </a:rPr>
              <a:t>规矩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  <a:ea typeface="华文新魏"/>
              </a:rPr>
              <a:t>无以成</a:t>
            </a: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华文新魏"/>
              </a:rPr>
              <a:t>方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979640" y="30686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把“行为规范”进行到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028000" y="1916280"/>
            <a:ext cx="576360" cy="86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948360" y="2997360"/>
            <a:ext cx="1944720" cy="287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24000" y="4437000"/>
            <a:ext cx="93492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68360" y="3860640"/>
            <a:ext cx="288720" cy="1943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579600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82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82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74948" fill="hold"/>
                                        <p:tgtEl>
                                          <p:spTgt spid="8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1752480" y="1219320"/>
            <a:ext cx="60199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欣赏歌曲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5" name="ShockwaveFlash1"/>
          <p:cNvGraphicFramePr/>
          <p:nvPr/>
        </p:nvGraphicFramePr>
        <p:xfrm>
          <a:off x="539640" y="333360"/>
          <a:ext cx="8209080" cy="59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3360"/>
                    <a:ext cx="8209080" cy="59752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730872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539640" y="620640"/>
            <a:ext cx="756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路上遇见老师啊，可千万不能装作没看见。即使题目很难写，也不能看别人的试卷。走廊上男生的足球还在一直乒乒乓乓响个不停。这样不文明，这样太危险，千万不要再冒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客人来到家里面，一定要站起来去迎接。原本清洁的墙面，不能把它当作画卷。食堂里的队伍总是一直慢慢吞吞走走停停，要耐心等待，不要去插队，遵守秩序才正确。哦，每一分每秒，每一时每刻，我们要遵守规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2"/>
          <a:stretch/>
        </p:blipFill>
        <p:spPr>
          <a:xfrm>
            <a:off x="7740720" y="6165720"/>
            <a:ext cx="5047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74948" fill="hold"/>
                                        <p:tgtEl>
                                          <p:spTgt spid="8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277632" fill="hold"/>
                                        <p:tgtEl>
                                          <p:spTgt spid="8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53440" cy="68580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363240" cy="685800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253440" cy="685800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363240" cy="685800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4753080" cy="335772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12"/>
          <a:stretch/>
        </p:blipFill>
        <p:spPr>
          <a:xfrm>
            <a:off x="4643280" y="0"/>
            <a:ext cx="4749840" cy="335772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13"/>
          <a:stretch/>
        </p:blipFill>
        <p:spPr>
          <a:xfrm>
            <a:off x="0" y="3357720"/>
            <a:ext cx="4681440" cy="350028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14"/>
          <a:stretch/>
        </p:blipFill>
        <p:spPr>
          <a:xfrm>
            <a:off x="4643280" y="3357720"/>
            <a:ext cx="4718160" cy="350028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15"/>
          <a:stretch/>
        </p:blipFill>
        <p:spPr>
          <a:xfrm>
            <a:off x="0" y="6308640"/>
            <a:ext cx="3808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5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000"/>
                            </p:stCondLst>
                            <p:childTnLst>
                              <p:par>
                                <p:cTn id="34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187280" y="1700280"/>
            <a:ext cx="1015380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勿以恶小而为之，勿以善小而不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诸葛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2340000" y="1268280"/>
            <a:ext cx="604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成功的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们只惊羡她现时的明艳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411280" y="2924280"/>
            <a:ext cx="5761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然而当初她的芽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浸透了奋斗的泪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洒遍了牺牲的血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042920" y="2133720"/>
            <a:ext cx="7199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宋体"/>
              </a:rPr>
              <a:t>   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人生的道路虽然漫长，但是要紧处往往只有几步，尤其当你年青的时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                                ——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柳 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 txBox="1"/>
          <p:nvPr/>
        </p:nvSpPr>
        <p:spPr>
          <a:xfrm>
            <a:off x="1143000" y="685800"/>
            <a:ext cx="64008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美丽的梦想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美好的人生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都会在你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的日子里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如愿以偿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 txBox="1"/>
          <p:nvPr/>
        </p:nvSpPr>
        <p:spPr>
          <a:xfrm>
            <a:off x="1523880" y="533520"/>
            <a:ext cx="57913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  </a:t>
            </a: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祝大家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梦想成真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762120" y="4419720"/>
            <a:ext cx="73911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行楷"/>
              </a:rPr>
              <a:t>我的未来不是梦</a:t>
            </a:r>
            <a:endParaRPr b="1" i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ShockwaveFlash1"/>
          <p:cNvGraphicFramePr/>
          <p:nvPr/>
        </p:nvGraphicFramePr>
        <p:xfrm>
          <a:off x="1042920" y="1268280"/>
          <a:ext cx="748980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268280"/>
                    <a:ext cx="7489800" cy="47530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4067280" y="907920"/>
            <a:ext cx="2952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播种一种习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收获一种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播种一种行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收获一种性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播种一种性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收获一种命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395280" y="1052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必答题一：请问行为规范共分成几大块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116000" y="1773360"/>
            <a:ext cx="31687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答案：五大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95280" y="2421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必答题二：请问行为规范一共有几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187280" y="3068640"/>
            <a:ext cx="27370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答案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95280" y="3645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必答题三：请问“诚实守信，礼貌待人”是行为规范哪一大部分的标题？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87280" y="4797360"/>
            <a:ext cx="56898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答案：第二大部分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304920" y="304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必答题四：请问清港中学的校训是什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838080" y="1905120"/>
            <a:ext cx="510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066680" y="1143000"/>
            <a:ext cx="54104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答案：团结勤奋，求实创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80880" y="19810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必答题五：请问清港中学的教风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990720" y="2895480"/>
            <a:ext cx="54100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答案：教学相长，传授不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33520" y="36576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必答题六：请问清港中学的学风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66680" y="4572000"/>
            <a:ext cx="54104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答案：互助互勉，自主自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468360" y="1413000"/>
            <a:ext cx="83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有一天，一同学爬墙出校，正好被耿校长逮个正着。耿校长问道：“这么高的墙，你怎么爬出来的？”这同学回答说：“李宁，一切皆有可能。”耿校长又问：“从墙上跳出去会有什么后果？”他指指脚上的鞋子说：“特步，飞一般的感觉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39640" y="3789360"/>
            <a:ext cx="828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第二天，这同学没穿校服又被张主任碰到了。张主任问他：“你怎么不穿校服？”他说：“安踏，我选择我喜欢。” 张主任让他回家把校服换上去，他说：“森马，穿什么就是什么。” 张主任火了，说：“动感地带，我的地盘我做主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684360" y="105264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抢答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请问以上突出反映了一种什么现象？违反了行为规范的哪一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26920" y="328464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正确答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相互攀比、崇尚名牌现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违反了第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宋体"/>
              </a:rPr>
              <a:t>条：生活节俭，不互相攀比，不乱花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762120" y="304920"/>
            <a:ext cx="32004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猜一猜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849" name=""/>
          <p:cNvSpPr/>
          <p:nvPr/>
        </p:nvSpPr>
        <p:spPr>
          <a:xfrm>
            <a:off x="2819520" y="28954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草头微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191120" y="12193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字谜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00400" y="38098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（薇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0:36:2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0:44:56Z</dcterms:modified>
  <cp:revision>67</cp:revision>
  <dc:subject>主题班会课件(分28大类): http://shop62905894.taobao.com</dc:subject>
  <dc:title>主题班会课件(分28大类): http://shop62905894.taobao.com</dc:title>
</cp:coreProperties>
</file>